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9AD2-52CC-4FD5-A56F-D94DD00F98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4E3D-8C58-4507-AE7C-5E8FE990D69D}" type="slidenum">
              <a:rPr b="0" lang="pl-P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3C9-F047-4C91-80E6-8B995BF8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C3C-7572-41E9-8815-6108C549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2C9-8CD6-496A-ACAB-7163C462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914-C9B2-4A5C-BA1C-AB734576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77E22-7AED-489B-A2C6-BDE967F7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9F6A5-E4C9-4CC9-871D-31309AE8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614E4-027B-4509-980C-6BC3642F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CDB99-8A04-4D1F-BC60-D2B9D1A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A1163-6270-46C1-8262-86C7BC4E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CC9AC-867D-401B-A579-6AB8D312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80D1C-AAC9-460A-99E1-CDF3C93B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58C-2DDE-44F5-BBDD-ABB7C3CE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C03C6-C42B-44D7-9497-886B9D6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D44FC-63A2-4587-B9A9-F2F1E419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D8E7A-9690-44A4-B8B5-C8110440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8B355-B837-4012-9825-5FA85F1B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C1079-EC83-4DF7-B00F-81FAF863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FBE-E000-4ACC-A9B1-2B7EF41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716-CCD1-46C0-953A-5B326EBF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A94-3ADF-4CCE-852C-369E4A13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8E9-EF8B-4538-85E5-265A05C2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609-164A-4720-BAD2-FD63C939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054-2835-44CB-AD56-EC24F03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6CD-400F-4DC3-BA3B-B22208A0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F723-9808-425C-8078-A3AA61CA219A}" type="slidenum">
              <a:rPr b="0" lang="pl-PL" sz="1200" spc="-1" strike="noStrike">
                <a:solidFill>
                  <a:srgbClr val="d2d2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53960" y="518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20B-240D-4B4C-9E19-391879B6BB23}" type="slidenum">
              <a:rPr b="0" lang="pl-PL" sz="1200" spc="-1" strike="noStrike">
                <a:solidFill>
                  <a:srgbClr val="d2d2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hyperlink" Target="http://fuerte.psystem.pl/pages/image/imagepage19.htm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RoqueNublo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en.wikipedia.org/wiki/File:Teide2007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en.wikipedia.org/wiki/File:Anaga_2006.jpg" TargetMode="External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962160"/>
            <a:ext cx="829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d2d2d2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143080" y="5143680"/>
            <a:ext cx="6386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cc"/>
                </a:solidFill>
                <a:latin typeface="Century Schoolbook"/>
              </a:rPr>
              <a:t>WYSPY       KANARYJSKIE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69" name="Picture 2" descr="http://www.ttglive.com/image/image_gallery?img_id=2620076"/>
          <p:cNvPicPr/>
          <p:nvPr/>
        </p:nvPicPr>
        <p:blipFill>
          <a:blip r:embed="rId1"/>
          <a:srcRect l="2265" t="0" r="2265" b="0"/>
          <a:stretch/>
        </p:blipFill>
        <p:spPr>
          <a:xfrm>
            <a:off x="6215040" y="1571760"/>
            <a:ext cx="2286000" cy="22860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0" name="pole tekstowe 4"/>
          <p:cNvSpPr/>
          <p:nvPr/>
        </p:nvSpPr>
        <p:spPr>
          <a:xfrm>
            <a:off x="6357960" y="42148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e69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ole tekstowe 5"/>
          <p:cNvSpPr/>
          <p:nvPr/>
        </p:nvSpPr>
        <p:spPr>
          <a:xfrm>
            <a:off x="6572160" y="335772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Schoolbook"/>
              </a:rPr>
              <a:t>Timanfaya-Lanzarote</a:t>
            </a:r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ymbol zastępczy obrazu 6" descr="DSC_8706[1].jpg"/>
          <p:cNvPicPr/>
          <p:nvPr/>
        </p:nvPicPr>
        <p:blipFill>
          <a:blip r:embed="rId1"/>
          <a:srcRect l="0" t="24877" r="0" b="24877"/>
          <a:stretch/>
        </p:blipFill>
        <p:spPr>
          <a:xfrm>
            <a:off x="457200" y="340344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0" name="Symbol zastępczy obrazu 5" descr="DSC_8287[1].jpg"/>
          <p:cNvPicPr/>
          <p:nvPr/>
        </p:nvPicPr>
        <p:blipFill>
          <a:blip r:embed="rId2"/>
          <a:stretch/>
        </p:blipFill>
        <p:spPr>
          <a:xfrm>
            <a:off x="4664160" y="390600"/>
            <a:ext cx="4022640" cy="2693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40226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cc"/>
                </a:solidFill>
                <a:latin typeface="Century Schoolbook"/>
              </a:rPr>
              <a:t>FUERTEVENTURA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cc"/>
                </a:solidFill>
                <a:latin typeface="Century Schoolbook"/>
              </a:rPr>
              <a:t>http://fuerte.psystem.pl/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212" name="Picture 10" descr="http://fuerte.psystem.pl/images/thumbnail/DSC_8372.JPG">
            <a:hlinkClick r:id="rId3"/>
          </p:cNvPr>
          <p:cNvPicPr/>
          <p:nvPr/>
        </p:nvPicPr>
        <p:blipFill>
          <a:blip r:embed="rId4"/>
          <a:srcRect l="0" t="12509" r="0" b="12509"/>
          <a:stretch/>
        </p:blipFill>
        <p:spPr>
          <a:xfrm>
            <a:off x="4664160" y="340344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27000" y="61718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Century Schoolbook"/>
              </a:rPr>
              <a:t>Wydmy Maspalomas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60920" y="61718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Century Schoolbook"/>
              </a:rPr>
              <a:t>Presa de Chira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0920" y="1519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Century Schoolbook"/>
              </a:rPr>
              <a:t>Roque Bentayga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216" name="Picture 2" descr="http://upload.wikimedia.org/wikipedia/commons/thumb/8/85/RoqueNublo2.jpg/250px-RoqueNublo2.jpg">
            <a:hlinkClick r:id="rId1"/>
          </p:cNvPr>
          <p:cNvPicPr/>
          <p:nvPr/>
        </p:nvPicPr>
        <p:blipFill>
          <a:blip r:embed="rId2"/>
          <a:srcRect l="6860" t="0" r="6860" b="0"/>
          <a:stretch/>
        </p:blipFill>
        <p:spPr>
          <a:xfrm>
            <a:off x="927000" y="533520"/>
            <a:ext cx="365292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7" name="Picture 4" descr="http://upload.wikimedia.org/wikipedia/commons/thumb/b/bc/Presa_chira_gran_canaria.JPG/250px-Presa_chira_gran_canaria.JPG"/>
          <p:cNvPicPr/>
          <p:nvPr/>
        </p:nvPicPr>
        <p:blipFill>
          <a:blip r:embed="rId3"/>
          <a:srcRect l="0" t="136" r="0" b="136"/>
          <a:stretch/>
        </p:blipFill>
        <p:spPr>
          <a:xfrm>
            <a:off x="466092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8" name="Picture 6" descr="http://upload.wikimedia.org/wikipedia/commons/thumb/6/64/D%C3%BCne4.jpg/250px-D%C3%BCne4.jpg"/>
          <p:cNvPicPr/>
          <p:nvPr/>
        </p:nvPicPr>
        <p:blipFill>
          <a:blip r:embed="rId4"/>
          <a:srcRect l="0" t="2888" r="0" b="2888"/>
          <a:stretch/>
        </p:blipFill>
        <p:spPr>
          <a:xfrm>
            <a:off x="92700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9" name="Picture 8" descr="http://upload.wikimedia.org/wikipedia/commons/thumb/6/62/Bentayga2.jpg/250px-Bentayga2.jpg"/>
          <p:cNvPicPr/>
          <p:nvPr/>
        </p:nvPicPr>
        <p:blipFill>
          <a:blip r:embed="rId5"/>
          <a:srcRect l="5480" t="0" r="5480" b="0"/>
          <a:stretch/>
        </p:blipFill>
        <p:spPr>
          <a:xfrm>
            <a:off x="4660920" y="53352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20" name="pole tekstowe 15"/>
          <p:cNvSpPr/>
          <p:nvPr/>
        </p:nvSpPr>
        <p:spPr>
          <a:xfrm>
            <a:off x="2071800" y="357192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00cc"/>
                </a:solidFill>
                <a:latin typeface="Century Schoolbook"/>
              </a:rPr>
              <a:t>GRAN CANARI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27000" y="1519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Century Schoolbook"/>
              </a:rPr>
              <a:t>Roque Nublo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ymbol zastępczy obrazu 9" descr="180px-Kleine_Kanareneidechse[1].jpg"/>
          <p:cNvPicPr/>
          <p:nvPr/>
        </p:nvPicPr>
        <p:blipFill>
          <a:blip r:embed="rId1"/>
          <a:srcRect l="6299" t="0" r="6299" b="0"/>
          <a:stretch/>
        </p:blipFill>
        <p:spPr>
          <a:xfrm>
            <a:off x="4660920" y="53352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3" name="Symbol zastępczy obrazu 21" descr="imagesCALFO3TW.jpg"/>
          <p:cNvPicPr/>
          <p:nvPr/>
        </p:nvPicPr>
        <p:blipFill>
          <a:blip r:embed="rId2"/>
          <a:stretch/>
        </p:blipFill>
        <p:spPr>
          <a:xfrm>
            <a:off x="4665600" y="3352680"/>
            <a:ext cx="364824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4" name="Picture 4" descr="http://upload.wikimedia.org/wikipedia/commons/thumb/9/91/El_Hierro_Sabinar.JPG/250px-El_Hierro_Sabinar.JPG"/>
          <p:cNvPicPr/>
          <p:nvPr/>
        </p:nvPicPr>
        <p:blipFill>
          <a:blip r:embed="rId3"/>
          <a:srcRect l="5522" t="0" r="5522" b="0"/>
          <a:stretch/>
        </p:blipFill>
        <p:spPr>
          <a:xfrm>
            <a:off x="927000" y="533520"/>
            <a:ext cx="365292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5" name="Symbol zastępczy obrazu 20" descr="DSCN2608.JPG"/>
          <p:cNvPicPr/>
          <p:nvPr/>
        </p:nvPicPr>
        <p:blipFill>
          <a:blip r:embed="rId4"/>
          <a:stretch/>
        </p:blipFill>
        <p:spPr>
          <a:xfrm>
            <a:off x="92700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26" name="pole tekstowe 19"/>
          <p:cNvSpPr/>
          <p:nvPr/>
        </p:nvSpPr>
        <p:spPr>
          <a:xfrm>
            <a:off x="4000680" y="1000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bfbfbf"/>
                </a:solidFill>
                <a:latin typeface="Century Schoolbook"/>
              </a:rPr>
              <a:t>El Hierro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7" name="pole tekstowe 22"/>
          <p:cNvSpPr/>
          <p:nvPr/>
        </p:nvSpPr>
        <p:spPr>
          <a:xfrm>
            <a:off x="5357880" y="5715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La Gomer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8" name="pole tekstowe 23"/>
          <p:cNvSpPr/>
          <p:nvPr/>
        </p:nvSpPr>
        <p:spPr>
          <a:xfrm>
            <a:off x="1643040" y="5643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Teneryf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Ela\Desktop\Tenerife-prezentacja\map_of_canary-islands.jpg"/>
          <p:cNvPicPr/>
          <p:nvPr/>
        </p:nvPicPr>
        <p:blipFill>
          <a:blip r:embed="rId1"/>
          <a:srcRect l="0" t="73" r="0" b="73"/>
          <a:stretch/>
        </p:blipFill>
        <p:spPr>
          <a:xfrm>
            <a:off x="914400" y="295200"/>
            <a:ext cx="7467480" cy="5600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60199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entury Schoolbook"/>
              </a:rPr>
              <a:t>LANZAROTE - FURTEVENTURA - GRAN CANARIA- TENERIFE – LA GOMERA – LA PALMA – EL HIERRO</a:t>
            </a:r>
            <a:endParaRPr b="0" lang="en-US" sz="1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Symbol zastępczy obrazu 8" descr="750px-Flag_of_the_Canary_Islands.svg[1].png"/>
          <p:cNvPicPr/>
          <p:nvPr/>
        </p:nvPicPr>
        <p:blipFill>
          <a:blip r:embed="rId1"/>
          <a:srcRect l="0" t="4127" r="0" b="4127"/>
          <a:stretch/>
        </p:blipFill>
        <p:spPr>
          <a:xfrm>
            <a:off x="457200" y="4429080"/>
            <a:ext cx="3257640" cy="19922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5" name="Symbol zastępczy obrazu 6" descr="Santa-cruz-auditorium[1].jpg"/>
          <p:cNvPicPr/>
          <p:nvPr/>
        </p:nvPicPr>
        <p:blipFill>
          <a:blip r:embed="rId2"/>
          <a:stretch/>
        </p:blipFill>
        <p:spPr>
          <a:xfrm>
            <a:off x="4664160" y="22860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39006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5005f"/>
                </a:solidFill>
                <a:latin typeface="Century Schoolbook"/>
              </a:rPr>
              <a:t>COMUNIDAD AUT</a:t>
            </a: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O</a:t>
            </a:r>
            <a:r>
              <a:rPr b="1" lang="pl-PL" sz="1800" spc="-1" strike="noStrike">
                <a:solidFill>
                  <a:srgbClr val="75005f"/>
                </a:solidFill>
                <a:latin typeface="Century Schoolbook"/>
              </a:rPr>
              <a:t>NOMA DE CANARIAS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Powierzchnia: 7 447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Populacja: 2 mln 075tys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Stolica: Santa Cruz de Tenerife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Las Palmas de Gran Canari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77" name="Symbol zastępczy obrazu 12" descr="800px-Columbus_House-Vegueta-Las_Palmas_Gran_Canaria[1].jpg"/>
          <p:cNvPicPr/>
          <p:nvPr/>
        </p:nvPicPr>
        <p:blipFill>
          <a:blip r:embed="rId3"/>
          <a:srcRect l="14" t="0" r="14" b="0"/>
          <a:stretch/>
        </p:blipFill>
        <p:spPr>
          <a:xfrm>
            <a:off x="4664160" y="340344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8" name="pole tekstowe 6"/>
          <p:cNvSpPr/>
          <p:nvPr/>
        </p:nvSpPr>
        <p:spPr>
          <a:xfrm>
            <a:off x="5000760" y="28576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La Laguna-Tenerif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pole tekstowe 7"/>
          <p:cNvSpPr/>
          <p:nvPr/>
        </p:nvSpPr>
        <p:spPr>
          <a:xfrm>
            <a:off x="5286240" y="56437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Las Palmas- Gran Canari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Symbol zastępczy obrazu 4" descr="DSCN2375.JPG"/>
          <p:cNvPicPr/>
          <p:nvPr/>
        </p:nvPicPr>
        <p:blipFill>
          <a:blip r:embed="rId1"/>
          <a:srcRect l="0" t="122" r="0" b="122"/>
          <a:stretch/>
        </p:blipFill>
        <p:spPr>
          <a:xfrm>
            <a:off x="419040" y="233280"/>
            <a:ext cx="4640400" cy="6172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257440" y="3047760"/>
            <a:ext cx="3505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rmAutofit/>
          </a:bodyPr>
          <a:p>
            <a:pPr marL="343080" indent="-343080">
              <a:spcBef>
                <a:spcPts val="451"/>
              </a:spcBef>
              <a:buClr>
                <a:srgbClr val="75005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Atlantyd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75005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Elizjum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75005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Guanczowi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75005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Kolonizacj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pole tekstowe 3"/>
          <p:cNvSpPr/>
          <p:nvPr/>
        </p:nvSpPr>
        <p:spPr>
          <a:xfrm>
            <a:off x="1000080" y="58579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Candelaría- Tenerif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Symbol zastępczy obrazu 8" descr="DSCN2881.JPG"/>
          <p:cNvPicPr/>
          <p:nvPr/>
        </p:nvPicPr>
        <p:blipFill>
          <a:blip r:embed="rId1"/>
          <a:srcRect l="18" t="0" r="18" b="0"/>
          <a:stretch/>
        </p:blipFill>
        <p:spPr>
          <a:xfrm>
            <a:off x="4664160" y="340344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4" name="Symbol zastępczy obrazu 9" descr="250px-Teide_and_Caldera_2006[1].jpg"/>
          <p:cNvPicPr/>
          <p:nvPr/>
        </p:nvPicPr>
        <p:blipFill>
          <a:blip r:embed="rId2"/>
          <a:srcRect l="0" t="14958" r="0" b="14958"/>
          <a:stretch/>
        </p:blipFill>
        <p:spPr>
          <a:xfrm>
            <a:off x="500040" y="4286160"/>
            <a:ext cx="4051440" cy="21351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5" name="Symbol zastępczy obrazu 5" descr="DSCN2771.JPG"/>
          <p:cNvPicPr/>
          <p:nvPr/>
        </p:nvPicPr>
        <p:blipFill>
          <a:blip r:embed="rId3"/>
          <a:srcRect l="18" t="0" r="18" b="0"/>
          <a:stretch/>
        </p:blipFill>
        <p:spPr>
          <a:xfrm>
            <a:off x="4664160" y="22860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28400" y="214200"/>
            <a:ext cx="407196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2000"/>
          </a:bodyPr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cc"/>
                </a:solidFill>
                <a:latin typeface="Century Schoolbook"/>
              </a:rPr>
              <a:t>TENERIF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El Teide 3 718 m n.p.m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-178200">
              <a:spcBef>
                <a:spcPts val="45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http://reddeparquesnacionales.mma.es/parques/teide/index.htm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Symbol zastępczy obrazu 6" descr="DSCN2635.JPG"/>
          <p:cNvPicPr/>
          <p:nvPr/>
        </p:nvPicPr>
        <p:blipFill>
          <a:blip r:embed="rId1"/>
          <a:srcRect l="2635" t="0" r="2635" b="0"/>
          <a:stretch/>
        </p:blipFill>
        <p:spPr>
          <a:xfrm>
            <a:off x="5072040" y="3643200"/>
            <a:ext cx="3649680" cy="28893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8" name="Symbol zastępczy obrazu 4" descr="imagesCAIM1XSU.jpg"/>
          <p:cNvPicPr/>
          <p:nvPr/>
        </p:nvPicPr>
        <p:blipFill>
          <a:blip r:embed="rId2"/>
          <a:stretch/>
        </p:blipFill>
        <p:spPr>
          <a:xfrm>
            <a:off x="428760" y="1785960"/>
            <a:ext cx="4457520" cy="33433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9" name="Symbol zastępczy obrazu 5" descr="DSCN1500.JPG"/>
          <p:cNvPicPr/>
          <p:nvPr/>
        </p:nvPicPr>
        <p:blipFill>
          <a:blip r:embed="rId3"/>
          <a:stretch/>
        </p:blipFill>
        <p:spPr>
          <a:xfrm>
            <a:off x="5072040" y="50004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0" name="pole tekstowe 11"/>
          <p:cNvSpPr/>
          <p:nvPr/>
        </p:nvSpPr>
        <p:spPr>
          <a:xfrm>
            <a:off x="5500800" y="278604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Teneryfa Północn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ole tekstowe 13"/>
          <p:cNvSpPr/>
          <p:nvPr/>
        </p:nvSpPr>
        <p:spPr>
          <a:xfrm>
            <a:off x="5572080" y="607212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Playa de Las Americas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ole tekstowe 14"/>
          <p:cNvSpPr/>
          <p:nvPr/>
        </p:nvSpPr>
        <p:spPr>
          <a:xfrm>
            <a:off x="928800" y="4714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Masc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pole tekstowe 7"/>
          <p:cNvSpPr/>
          <p:nvPr/>
        </p:nvSpPr>
        <p:spPr>
          <a:xfrm>
            <a:off x="714240" y="578628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http://www.youtube.com/results?search_query=tenerife&amp;aq=f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Symbol zastępczy obrazu 9" descr="imagesCAW7R9ER.jpg"/>
          <p:cNvPicPr/>
          <p:nvPr/>
        </p:nvPicPr>
        <p:blipFill>
          <a:blip r:embed="rId1"/>
          <a:stretch/>
        </p:blipFill>
        <p:spPr>
          <a:xfrm>
            <a:off x="927000" y="534960"/>
            <a:ext cx="3652920" cy="2739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27000" y="1519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c00cc"/>
                </a:solidFill>
                <a:latin typeface="Century Schoolbook"/>
              </a:rPr>
              <a:t>Tenerife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96" name="Picture 11" descr="http://upload.wikimedia.org/wikipedia/commons/thumb/8/83/Teide2007.jpg/250px-Teide2007.jpg">
            <a:hlinkClick r:id="rId2"/>
          </p:cNvPr>
          <p:cNvPicPr/>
          <p:nvPr/>
        </p:nvPicPr>
        <p:blipFill>
          <a:blip r:embed="rId3"/>
          <a:srcRect l="3867" t="0" r="3867" b="0"/>
          <a:stretch/>
        </p:blipFill>
        <p:spPr>
          <a:xfrm>
            <a:off x="4660920" y="53352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7" name="Picture 13" descr="http://upload.wikimedia.org/wikipedia/commons/thumb/6/61/Anaga_2006.jpg/300px-Anaga_200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6092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8" name="Symbol zastępczy obrazu 28" descr="120px-Pto-cruz[1].jpg"/>
          <p:cNvPicPr/>
          <p:nvPr/>
        </p:nvPicPr>
        <p:blipFill>
          <a:blip r:embed="rId6"/>
          <a:stretch/>
        </p:blipFill>
        <p:spPr>
          <a:xfrm>
            <a:off x="982800" y="3352680"/>
            <a:ext cx="354636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Symbol zastępczy obrazu 7" descr="imagesCAW7R9ER.jpg"/>
          <p:cNvPicPr/>
          <p:nvPr/>
        </p:nvPicPr>
        <p:blipFill>
          <a:blip r:embed="rId1"/>
          <a:stretch/>
        </p:blipFill>
        <p:spPr>
          <a:xfrm>
            <a:off x="5165640" y="3780000"/>
            <a:ext cx="3017880" cy="22651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0" name="Symbol zastępczy obrazu 6" descr="imagesCA9MC74E.jpg"/>
          <p:cNvPicPr/>
          <p:nvPr/>
        </p:nvPicPr>
        <p:blipFill>
          <a:blip r:embed="rId2"/>
          <a:stretch/>
        </p:blipFill>
        <p:spPr>
          <a:xfrm>
            <a:off x="501480" y="3403440"/>
            <a:ext cx="393552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1" name="Symbol zastępczy obrazu 5" descr="Santa-cruz-auditorium[1].jpg"/>
          <p:cNvPicPr/>
          <p:nvPr/>
        </p:nvPicPr>
        <p:blipFill>
          <a:blip r:embed="rId3"/>
          <a:srcRect l="0" t="18745" r="0" b="18745"/>
          <a:stretch/>
        </p:blipFill>
        <p:spPr>
          <a:xfrm>
            <a:off x="4664160" y="22860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40226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Century Schoolbook"/>
              </a:rPr>
              <a:t>SANTA CRUZ DE TENERIF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451"/>
              </a:spcBef>
              <a:buClr>
                <a:srgbClr val="cc00cc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 </a:t>
            </a: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Auditorio de Tenerif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451"/>
              </a:spcBef>
              <a:buClr>
                <a:srgbClr val="cc00cc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TEA   Tenerife Espacio de las Artes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451"/>
              </a:spcBef>
              <a:buClr>
                <a:srgbClr val="cc00cc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La Lagun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http://www.youtube.com/watch?v=61DsYiMYOsE&amp;feature=related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Symbol zastępczy obrazu 9" descr="Lanzarote%205448[1].jpg"/>
          <p:cNvPicPr/>
          <p:nvPr/>
        </p:nvPicPr>
        <p:blipFill>
          <a:blip r:embed="rId1"/>
          <a:srcRect l="6641" t="0" r="6641" b="0"/>
          <a:stretch/>
        </p:blipFill>
        <p:spPr>
          <a:xfrm>
            <a:off x="927000" y="533520"/>
            <a:ext cx="365292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4" name="Symbol zastępczy obrazu 11" descr="180px-ElDiablo[1].jpg"/>
          <p:cNvPicPr/>
          <p:nvPr/>
        </p:nvPicPr>
        <p:blipFill>
          <a:blip r:embed="rId2"/>
          <a:stretch/>
        </p:blipFill>
        <p:spPr>
          <a:xfrm>
            <a:off x="4660920" y="53352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5" name="Symbol zastępczy obrazu 12" descr="imagesCAIOX9F6.jpg"/>
          <p:cNvPicPr/>
          <p:nvPr/>
        </p:nvPicPr>
        <p:blipFill>
          <a:blip r:embed="rId3"/>
          <a:stretch/>
        </p:blipFill>
        <p:spPr>
          <a:xfrm>
            <a:off x="1738440" y="3352680"/>
            <a:ext cx="203508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6" name="Symbol zastępczy obrazu 10" descr="lanzarote[1].jpg"/>
          <p:cNvPicPr/>
          <p:nvPr/>
        </p:nvPicPr>
        <p:blipFill>
          <a:blip r:embed="rId4"/>
          <a:srcRect l="0" t="4229" r="0" b="4229"/>
          <a:stretch/>
        </p:blipFill>
        <p:spPr>
          <a:xfrm>
            <a:off x="466092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927000" y="1519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00cc"/>
                </a:solidFill>
                <a:latin typeface="Century Schoolbook"/>
              </a:rPr>
              <a:t>LANZAROT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ole tekstowe 14"/>
          <p:cNvSpPr/>
          <p:nvPr/>
        </p:nvSpPr>
        <p:spPr>
          <a:xfrm>
            <a:off x="785880" y="6429240"/>
            <a:ext cx="764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entury Schoolbook"/>
              </a:rPr>
              <a:t>http://www.wysokieobcasy.pl/wysokie-obcasy/1,53662,7402646,Chce_wrocic_do_Sahary__Zywa_lub_martwa.html</a:t>
            </a:r>
            <a:endParaRPr b="0" lang="en-US" sz="1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5:31:55Z</dcterms:created>
  <dc:creator/>
  <dc:description/>
  <dc:language>en-US</dc:language>
  <cp:lastModifiedBy/>
  <dcterms:modified xsi:type="dcterms:W3CDTF">2012-05-19T16:19:10Z</dcterms:modified>
  <cp:revision>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5</vt:r8>
  </property>
  <property fmtid="{D5CDD505-2E9C-101B-9397-08002B2CF9AE}" pid="3" name="_Version">
    <vt:lpwstr>12.0.4518</vt:lpwstr>
  </property>
</Properties>
</file>